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9042C-1C68-4F4F-A97C-87C11BC1C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BB735-2754-4627-BF34-CDC05A5F3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ED90C-FCE8-484C-9B39-738913CA9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ED565-847E-4980-98C3-1C7652773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DFCAC-A8D2-42B1-AAAA-CA7081E97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0FFC1-3F53-4C29-BF87-7CF6F6329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73F3E-7740-4BBB-AD80-89B01094A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11BCE-4FE3-4CA8-B83B-C168E8B44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59ECB-4659-452A-A1E6-077B71330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AE22A-9773-4735-AA30-06C93AA03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21486-A5F4-47FD-9F71-DC2FBDDBC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5CD89-794C-45C0-BE96-206A62403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43023-1288-4746-909F-428D3F5F8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CD30F-E2B2-469B-A7A9-5D6EDDEA5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E8F0F-0F54-48C9-9190-794505E28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62774-3B5E-4F52-A298-A1B2DDE4A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B7AA1-3769-4168-8630-CBA004410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B9C8C-253B-4B45-9D96-15CF10143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F26FA-0F43-4CA5-97A5-BD1B43184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B60B6-63FE-4D52-8094-5D294985C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94D76-5FB3-4F1A-9285-3495F9463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AE6FE-7569-4A2D-964E-8D16DE262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150AE-D720-4B37-BF8B-E18DB95C8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3C5F3-EBFD-44CE-A9D1-2187262A9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cc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e6e3ac"/>
              </a:gs>
              <a:gs pos="100000">
                <a:srgbClr val="cac797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e7cca9"/>
                </a:gs>
                <a:gs pos="100000">
                  <a:srgbClr val="e6e3a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dfdca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3c092"/>
                  </a:gs>
                  <a:gs pos="100000">
                    <a:srgbClr val="e6e3ac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3c09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bdba8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5b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dfdca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e7cca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e7cca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e7cca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e7cca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cca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cca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e7cca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7cca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e7cca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7cca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e7cca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9257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39257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6e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c98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CCC21-2DA0-4DBA-9F10-C1FF40454E32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C17C6-867D-4753-98F8-82A630322C0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cc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e7cca9"/>
                </a:gs>
                <a:gs pos="100000">
                  <a:srgbClr val="e6e3a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dfdca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3c092"/>
                  </a:gs>
                  <a:gs pos="100000">
                    <a:srgbClr val="e6e3ac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3c09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bdba8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5b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dfdca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e7cca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e7cca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e7cca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e7cca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cca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cca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e7cca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7cca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e7cca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7cca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e7cca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9257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39257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6e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c98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DC7E5-C268-4C8A-A825-63339BC42104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CB6F3-871A-44C3-BA16-8B40D4050C5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cc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5"/>
          <p:cNvSpPr/>
          <p:nvPr/>
        </p:nvSpPr>
        <p:spPr>
          <a:xfrm>
            <a:off x="46836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b39257"/>
                </a:solidFill>
                <a:uFillTx/>
                <a:latin typeface="Arial"/>
              </a:rPr>
              <a:t>Основные понятия бюдже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b39257"/>
                </a:solidFill>
                <a:uFillTx/>
                <a:latin typeface="Arial"/>
              </a:rPr>
              <a:t>Основные понятия бюджета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БЮДЖЕТ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 - форма образования и расходования денежных средств, предназначенных для финансового обеспечения задач и функций государства и местного самоуправле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ДОХОДЫ БЮДЖЕТА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  -  поступающие в бюджет денежные средства, за исключением средств, являющихся источниками финансирования дефицита бюджет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РАСХОДЫ БЮДЖЕТА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 - выплачиваемые из бюджета денежные средства, за исключением средств, являющихся источниками финансирования дефицита бюджет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ДЕФИЦИТ БЮДЖЕТА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 - превышение расходов бюджета над его доходам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ПРОФИЦИТ БЮДЖЕТА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 - превышение доходов бюджета над его расходам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cc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050"/>
                </a:solidFill>
                <a:latin typeface="Arial"/>
              </a:rPr>
              <a:t>ДОХОДЫ БЮДЖЕТА В 2014 ГОДУ</a:t>
            </a:r>
            <a:endParaRPr b="0" lang="en-US" sz="3200" spc="-1" strike="noStrike">
              <a:solidFill>
                <a:srgbClr val="b39257"/>
              </a:solidFill>
              <a:latin typeface="Arial"/>
            </a:endParaRPr>
          </a:p>
        </p:txBody>
      </p:sp>
      <p:pic>
        <p:nvPicPr>
          <p:cNvPr id="215" name="Объект 3" descr=""/>
          <p:cNvPicPr/>
          <p:nvPr/>
        </p:nvPicPr>
        <p:blipFill>
          <a:blip r:embed="rId1"/>
          <a:stretch/>
        </p:blipFill>
        <p:spPr>
          <a:xfrm>
            <a:off x="457200" y="1603440"/>
            <a:ext cx="8229600" cy="45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cc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050"/>
                </a:solidFill>
                <a:latin typeface="Arial"/>
              </a:rPr>
              <a:t>СТРУКТУРА НАЛОГОВЫХ И НЕНАЛОГОВЫХ ДОХОДОВ В 2014 ГОДУ</a:t>
            </a:r>
            <a:endParaRPr b="0" lang="en-US" sz="2800" spc="-1" strike="noStrike">
              <a:solidFill>
                <a:srgbClr val="b39257"/>
              </a:solidFill>
              <a:latin typeface="Arial"/>
            </a:endParaRPr>
          </a:p>
        </p:txBody>
      </p:sp>
      <p:pic>
        <p:nvPicPr>
          <p:cNvPr id="217" name="Объект 3" descr=""/>
          <p:cNvPicPr/>
          <p:nvPr/>
        </p:nvPicPr>
        <p:blipFill>
          <a:blip r:embed="rId1"/>
          <a:stretch/>
        </p:blipFill>
        <p:spPr>
          <a:xfrm>
            <a:off x="457200" y="1603440"/>
            <a:ext cx="836280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cc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НОРМАТИВ ОТЧИСЛЕНИЙ ОТ НАЛОГА НА ДОХОДЫ ФИЗИЧЕСКИХ ЛИЦ</a:t>
            </a:r>
            <a:endParaRPr b="0" lang="en-US" sz="2800" spc="-1" strike="noStrike">
              <a:solidFill>
                <a:srgbClr val="b39257"/>
              </a:solidFill>
              <a:latin typeface="Arial"/>
            </a:endParaRPr>
          </a:p>
        </p:txBody>
      </p:sp>
      <p:pic>
        <p:nvPicPr>
          <p:cNvPr id="219" name="Объект 3" descr=""/>
          <p:cNvPicPr/>
          <p:nvPr/>
        </p:nvPicPr>
        <p:blipFill>
          <a:blip r:embed="rId1"/>
          <a:stretch/>
        </p:blipFill>
        <p:spPr>
          <a:xfrm>
            <a:off x="457200" y="1603440"/>
            <a:ext cx="8229600" cy="45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cc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00cc"/>
                </a:solidFill>
                <a:latin typeface="Arial"/>
              </a:rPr>
              <a:t>Безвозмездные поступления от других бюджетов бюджетной системы РФ          тыс.рублей</a:t>
            </a:r>
            <a:endParaRPr b="0" lang="en-US" sz="1600" spc="-1" strike="noStrike">
              <a:solidFill>
                <a:srgbClr val="b39257"/>
              </a:solidFill>
              <a:latin typeface="Arial"/>
            </a:endParaRPr>
          </a:p>
        </p:txBody>
      </p:sp>
      <p:pic>
        <p:nvPicPr>
          <p:cNvPr id="221" name="Диаграмма 2" descr=""/>
          <p:cNvPicPr/>
          <p:nvPr/>
        </p:nvPicPr>
        <p:blipFill>
          <a:blip r:embed="rId1"/>
          <a:stretch/>
        </p:blipFill>
        <p:spPr>
          <a:xfrm>
            <a:off x="324000" y="1127160"/>
            <a:ext cx="8740800" cy="566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cc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РАСХОДЫ БЮДЖЕТА</a:t>
            </a:r>
            <a:endParaRPr b="0" lang="en-US" sz="3200" spc="-1" strike="noStrike">
              <a:solidFill>
                <a:srgbClr val="b39257"/>
              </a:solidFill>
              <a:latin typeface="Arial"/>
            </a:endParaRPr>
          </a:p>
        </p:txBody>
      </p:sp>
      <p:pic>
        <p:nvPicPr>
          <p:cNvPr id="223" name="Диаграмма 8" descr=""/>
          <p:cNvPicPr/>
          <p:nvPr/>
        </p:nvPicPr>
        <p:blipFill>
          <a:blip r:embed="rId1"/>
          <a:stretch/>
        </p:blipFill>
        <p:spPr>
          <a:xfrm>
            <a:off x="469800" y="1414440"/>
            <a:ext cx="82774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cc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229600" cy="50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cc"/>
                </a:solidFill>
                <a:latin typeface="Arial"/>
              </a:rPr>
              <a:t>Структура</a:t>
            </a:r>
            <a:r>
              <a:rPr b="0" lang="ru-RU" sz="4000" spc="-1" strike="noStrike">
                <a:solidFill>
                  <a:srgbClr val="6600cc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6600cc"/>
                </a:solidFill>
                <a:latin typeface="Arial"/>
              </a:rPr>
              <a:t>расходов бюджета на 2014 год</a:t>
            </a:r>
            <a:endParaRPr b="0" lang="en-US" sz="2800" spc="-1" strike="noStrike">
              <a:solidFill>
                <a:srgbClr val="b39257"/>
              </a:solidFill>
              <a:latin typeface="Arial"/>
            </a:endParaRPr>
          </a:p>
        </p:txBody>
      </p:sp>
      <p:pic>
        <p:nvPicPr>
          <p:cNvPr id="225" name="Объект 4" descr=""/>
          <p:cNvPicPr/>
          <p:nvPr/>
        </p:nvPicPr>
        <p:blipFill>
          <a:blip r:embed="rId1"/>
          <a:stretch/>
        </p:blipFill>
        <p:spPr>
          <a:xfrm>
            <a:off x="396720" y="1054080"/>
            <a:ext cx="8571240" cy="54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15T04:20:44Z</dcterms:created>
  <dc:creator>Администратор</dc:creator>
  <dc:description/>
  <dc:language>en-US</dc:language>
  <cp:lastModifiedBy>Admins</cp:lastModifiedBy>
  <dcterms:modified xsi:type="dcterms:W3CDTF">2014-10-22T08:17:26Z</dcterms:modified>
  <cp:revision>46</cp:revision>
  <dc:subject/>
  <dc:title>Слайд 1</dc:title>
</cp:coreProperties>
</file>