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036-EC5B-424F-8FA9-65C476D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530-CC29-4CE3-8F3A-FAD6C871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721-C191-43D7-B30E-DF94D9B9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332-21FD-4434-94FB-AE8CDA2D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9EB-733B-4ADC-8964-D2652E94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E6D-1285-410C-90BD-51BC32BC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0CEB-AFA3-4D3F-8552-E8FFC9C3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4564-31AA-4B90-A71C-C3510A4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286C-101B-48EF-8A95-57B41F9C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2FC4-A5DF-4A8E-BDE7-C69DA76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996B-5233-4889-B547-0A197A93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82D-6607-456C-989E-309DF05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A30C-12A3-4770-B847-2CC56BE4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352-31FC-4F5D-BBD2-E4B6324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D4FF-E29C-4AAD-A4F9-2ED12AE0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65FF-7A13-4414-813D-2CCEFC04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6BC9-5AB2-4461-8B34-03566472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A50-CCCF-4C19-95FE-BBA0D79E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BA0-B495-4560-B239-2BA11997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20D-78E3-4219-B6DB-9F32AF70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C51-4B5D-41B9-8D99-24302F9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A648-9858-4ED8-89AE-B1E78C0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54D-46AA-4C8B-96F0-E833B73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A1F-76C2-427D-9EE1-48151D6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E885-2B7B-493F-A3BB-BEA2AF56C3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4E3-538B-4819-B709-0FF9658058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7cca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cca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7cc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7cca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e7cc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D619-EFF6-4E7F-98CF-22453CCE04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B1D-682B-4E27-B7B0-497A959AE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39257"/>
                </a:solidFill>
                <a:uFillTx/>
                <a:latin typeface="Arial"/>
              </a:rPr>
              <a:t>Основные понятия бюджета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ЮДЖЕТ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О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-  поступающие в бюджет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ХОДЫ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выплачиваемые из бюджета денежные средства, за исключением средств, являющихся источниками финансирования дефицита бюдж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расходов бюджета над его до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ФИЦИТ БЮДЖЕ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- превышение доходов бюджета над его расход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ДОХОДЫ БЮДЖЕТА В 2014 ГОДУ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СТРУКТУРА НАЛОГОВЫХ И НЕНАЛОГОВЫХ ДОХОДОВ В 2014 ГОДУ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3628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ОРМАТИВ ОТЧИСЛЕНИЙ ОТ НАЛОГА НА ДОХОДЫ ФИЗИЧЕСКИХ ЛИЦ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Безвозмездные поступления от других бюджетов бюджетной системы РФ          тыс.рублей</a:t>
            </a:r>
            <a:endParaRPr b="0" lang="en-US" sz="16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Диаграмма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74080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РАСХОДЫ БЮДЖЕТ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Диаграмма 8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7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c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труктура</a:t>
            </a:r>
            <a:r>
              <a:rPr b="0" lang="ru-RU" sz="4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расходов бюджета на 2014 год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396720" y="1054080"/>
            <a:ext cx="857124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4:20:44Z</dcterms:created>
  <dc:creator>Администратор</dc:creator>
  <dc:description/>
  <dc:language>en-US</dc:language>
  <cp:lastModifiedBy>Admins</cp:lastModifiedBy>
  <dcterms:modified xsi:type="dcterms:W3CDTF">2014-10-22T08:17:26Z</dcterms:modified>
  <cp:revision>46</cp:revision>
  <dc:subject/>
  <dc:title>Слайд 1</dc:title>
</cp:coreProperties>
</file>