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C2B-2280-4E95-B677-68F57E13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A8F-8CCC-4572-8A55-52092798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45A-714A-42D1-9EDC-46C96B85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FB0-D0AC-484B-8B81-C3279DF4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2F86-96A0-4706-A05D-A02B254C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172A-A097-4376-BFA0-73299C7D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E8F1-8AAE-4651-AC95-942CE8C0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30CB-79C7-4761-9AC5-06DD824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6898-D2C7-4231-A4C5-FF15DCF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2216-9BF6-4B01-AF93-1EA7AE51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92F5-D26B-448D-8FFC-59CF900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D27-55FB-42F9-BCDD-825731AC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9074-7960-47D4-B19B-4D12D8A5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B731-3F7A-4F80-989C-35E96348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7DA5-916B-4413-888F-0F24AE61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107A-3CC8-46CE-8CA5-3F627685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C315-977B-410B-B399-C6400F99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6FB-21BE-4FCA-8F85-AA14ACB5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7E3-1F84-461C-A083-461EA42E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60D-61FC-4BC1-AF11-8C9A4280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2C2-4AF0-4CB8-B52C-F260F34A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DE2-5476-4396-831A-60077215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33B-B3A7-4D63-B2A8-08FA25FC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9D2-0266-403F-A986-7501CA01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2EAF-8BD8-4753-B27A-7A406CFF0C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D582-836F-43EE-B644-C8DFBE178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BED6-4D3F-401F-829C-9805F8C07B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BA22-A78E-4C16-BB99-1085C1078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ДОХОДЫ БЮДЖЕТ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87280" y="1197000"/>
          <a:ext cx="77076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77076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2195640" y="1628640"/>
            <a:ext cx="936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772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1628640"/>
            <a:ext cx="93636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8867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64000" y="1628640"/>
            <a:ext cx="936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22077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1628640"/>
            <a:ext cx="936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29036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579600" y="0"/>
          <a:ext cx="7983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0"/>
                    <a:ext cx="7983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Структура доходов на 2015 год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9280" y="1125360"/>
          <a:ext cx="8785440" cy="547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878544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39257"/>
                </a:solidFill>
                <a:latin typeface="Arial"/>
              </a:rPr>
              <a:t>Структура налоговых и неналоговых доходов </a:t>
            </a:r>
            <a:br>
              <a:rPr sz="2500"/>
            </a:br>
            <a:r>
              <a:rPr b="0" lang="en-US" sz="2500" spc="-1" strike="noStrike">
                <a:solidFill>
                  <a:srgbClr val="b39257"/>
                </a:solidFill>
                <a:latin typeface="Arial"/>
              </a:rPr>
              <a:t>на 2015 год</a:t>
            </a:r>
            <a:endParaRPr b="0" lang="en-US" sz="25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996920"/>
          <a:ext cx="4038480" cy="373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96920"/>
                    <a:ext cx="4038480" cy="37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50920" y="1268280"/>
          <a:ext cx="8785080" cy="505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268280"/>
                    <a:ext cx="878508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332000" y="1015920"/>
          <a:ext cx="734544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15920"/>
                    <a:ext cx="73454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979640" y="183348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63319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1844640"/>
            <a:ext cx="93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62556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18446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4716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18446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2753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1197000"/>
          <a:ext cx="864216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6421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700280"/>
            <a:ext cx="1152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74465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2997360"/>
            <a:ext cx="1152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5395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3213000"/>
            <a:ext cx="1152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075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3213000"/>
            <a:ext cx="1152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790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расходов бюджета    на 2015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55640" y="836640"/>
          <a:ext cx="792000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9200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cc"/>
                </a:solidFill>
                <a:latin typeface="Arial"/>
              </a:rPr>
              <a:t>Структура расходов бюджета на 2015 год в рамках муниципальных программ</a:t>
            </a:r>
            <a:endParaRPr b="0" lang="en-US" sz="3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866880" y="1417680"/>
          <a:ext cx="7478640" cy="544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417680"/>
                    <a:ext cx="747864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Администратор</cp:lastModifiedBy>
  <dcterms:modified xsi:type="dcterms:W3CDTF">2014-12-16T04:52:16Z</dcterms:modified>
  <cp:revision>36</cp:revision>
  <dc:subject/>
  <dc:title>Слайд 1</dc:title>
</cp:coreProperties>
</file>