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C69-32B8-4D62-9FA6-9DB366B8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108-3762-4ECE-8AAA-C9E94AF4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1B3-2B43-47A3-8C97-61373F9E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181-29FE-45FA-8712-6A8DCB30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D056-0589-4BE6-85A6-C3582F84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8B46-9AF3-4C72-A47D-4152DFAE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9218-FA49-4325-A898-F8E879D7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C246-263B-4A6F-92D6-B029AC8F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10CD-11A3-479C-A8E0-EDFE3B44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6BDA-305A-475F-9C7E-E0FBC5BE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76C9-035C-4E5C-A84A-F72BF5A8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8C0-C708-40BE-9AF4-FE072FF5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4337-201E-41A3-AF4E-55997E33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E452-CE88-4DE4-9469-94A5127D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54BB-6D60-4D6D-A36A-1F11EF31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6666-E373-49CA-B30B-61014679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81DE-ADA8-4FA0-8F59-0E22D8F2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76C-062A-4086-B3B7-FB6725F1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84F-3C7E-4594-A7C8-BF6586CC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3CD-A7C5-4DE1-8630-6DB035DB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46C-4D9E-4621-A4FB-DF58B995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D83-116D-4832-A1E7-735B5B23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CD6-18AC-4EC6-BA88-1046EAE1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87F-3CCD-459C-B7D3-69A3EB65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ABC4-D312-43DF-8424-BCA6905CFA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4840-85AF-424F-9228-1B2039282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E8A5-08D6-4B84-8F8C-48BF6690E9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40C2-205C-478B-A132-188FE9A49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ЮДЖЕТ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ОХОДЫ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ХОДЫ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ЕФИЦИТ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ФИЦИТ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ДОХОДЫ БЮДЖЕТ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87280" y="1197000"/>
          <a:ext cx="77076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77076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2195640" y="1628640"/>
            <a:ext cx="936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772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1628640"/>
            <a:ext cx="93636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8867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64000" y="1628640"/>
            <a:ext cx="936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22077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8360" y="1628640"/>
            <a:ext cx="936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29036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579600" y="0"/>
          <a:ext cx="798336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0"/>
                    <a:ext cx="7983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Структура доходов на 2015 год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9280" y="1125360"/>
          <a:ext cx="8785440" cy="547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878544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39257"/>
                </a:solidFill>
                <a:latin typeface="Arial"/>
              </a:rPr>
              <a:t>Структура налоговых и неналоговых доходов </a:t>
            </a:r>
            <a:br>
              <a:rPr sz="2500"/>
            </a:br>
            <a:r>
              <a:rPr b="0" lang="en-US" sz="2500" spc="-1" strike="noStrike">
                <a:solidFill>
                  <a:srgbClr val="b39257"/>
                </a:solidFill>
                <a:latin typeface="Arial"/>
              </a:rPr>
              <a:t>на 2015 год</a:t>
            </a:r>
            <a:endParaRPr b="0" lang="en-US" sz="25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996920"/>
          <a:ext cx="4038480" cy="373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96920"/>
                    <a:ext cx="4038480" cy="37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50920" y="1268280"/>
          <a:ext cx="8785080" cy="505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268280"/>
                    <a:ext cx="878508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332000" y="1015920"/>
          <a:ext cx="734544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15920"/>
                    <a:ext cx="73454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979640" y="183348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63319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16360" y="1844640"/>
            <a:ext cx="93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62556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51280" y="184464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4716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184464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2753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РАСХОДЫ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50920" y="1197000"/>
          <a:ext cx="864216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6421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71640" y="1700280"/>
            <a:ext cx="1152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74465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6360" y="2997360"/>
            <a:ext cx="1152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5395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3213000"/>
            <a:ext cx="1152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075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3213000"/>
            <a:ext cx="1152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790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Структур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расходов бюджета    на 2015 год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55640" y="836640"/>
          <a:ext cx="7920000" cy="58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9200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cc"/>
                </a:solidFill>
                <a:latin typeface="Arial"/>
              </a:rPr>
              <a:t>Структура расходов бюджета на 2015 год в рамках муниципальных программ</a:t>
            </a:r>
            <a:endParaRPr b="0" lang="en-US" sz="3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866880" y="1417680"/>
          <a:ext cx="7478640" cy="544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1417680"/>
                    <a:ext cx="747864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Администратор</cp:lastModifiedBy>
  <dcterms:modified xsi:type="dcterms:W3CDTF">2014-12-16T04:52:16Z</dcterms:modified>
  <cp:revision>36</cp:revision>
  <dc:subject/>
  <dc:title>Слайд 1</dc:title>
</cp:coreProperties>
</file>