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A16A-DFDF-4446-8D76-866DEEAB2A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90A6-F3D9-487A-AC87-FDE9A36707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F35-E3E9-44EB-B60E-E526B02D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025-3B4F-4E4E-8E94-FAC437FF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9E57-85AF-411B-B40E-47E0AAD9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179-02C6-4253-A4D8-8108A3D6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061-A40B-4972-97F0-F0C2C18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68D-45F3-4687-8C8D-D69DB530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D5D-D665-403A-9537-D7C36DE1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DDF-EF95-4833-B886-CA94224C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922-656E-403D-817F-E18E09FA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010-25EF-4BA8-ADD7-201D68D4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3F2-8900-4AC8-9154-A4A2967A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8E58-1BCA-41C6-B8C6-F01F3C7C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B5FD-D428-4942-9098-821510D0E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Calibri"/>
              </a:rPr>
              <a:t>Показатели доходов и расходов в 2015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28760" y="100008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438120" y="1079640"/>
          <a:ext cx="8778960" cy="54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079640"/>
                    <a:ext cx="877896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5:07:02Z</dcterms:created>
  <dc:creator>2</dc:creator>
  <dc:description/>
  <dc:language>en-US</dc:language>
  <cp:lastModifiedBy>Администратор</cp:lastModifiedBy>
  <dcterms:modified xsi:type="dcterms:W3CDTF">2016-01-29T08:58:20Z</dcterms:modified>
  <cp:revision>22</cp:revision>
  <dc:subject/>
  <dc:title>Слайд 1</dc:title>
</cp:coreProperties>
</file>