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172-3636-423C-AE2F-F2D7DA58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310-93E8-4DD4-BD99-0047D627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884-5D18-4CFF-B0ED-4E417EFB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84D-155A-4063-8C00-0CB4A61C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64D7-CF69-4E8B-9CB7-3093C139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149A-ACB3-4DFF-B50B-1ACFCBEA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43BB-76AE-4EBE-881D-75340575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5F6F-799B-4F43-BF65-96016AF6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DA1B-38FF-4A5B-8B69-14806ED6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5F40-9A7B-42FF-8918-E5AE3D90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0CCE-23DA-40A5-A151-A0C9536A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86B-163E-4A22-8CD5-62985394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A1B1-E54C-4AFA-93AB-E6A36413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DA08-15D7-48F6-B1EC-364193B7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4538-3F18-469B-8C0F-6D72292C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41A6-A66C-450A-8E24-0FE8403C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D907-FBBA-4D31-A2F4-2EDBFBF2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490-4C0B-47C1-A3BB-30A2322D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84D-EAEE-4BDA-8008-78700636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9E6-68AE-43F8-A8FE-ECB9B536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3A4-4C6C-4B93-9C8F-AF3D1847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AFC-0BFA-40FD-A2C9-A591DA2A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2A2-FB3B-48E1-AAC6-5AAA86CE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9442-FECA-4A0F-BF85-146675B5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bd7ce"/>
              </a:gs>
              <a:gs pos="100000">
                <a:srgbClr val="b2bdb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25D4-F850-4FB0-9C88-F93CDA82ED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DAE1-A818-4084-BF28-90660A187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E5A3-D4A2-4214-83E1-3639C9443BC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9DE8-FE9B-4EAB-ADF2-3309FAE3DA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7d80"/>
                </a:solidFill>
                <a:uFillTx/>
                <a:latin typeface="Arial"/>
              </a:rPr>
              <a:t>БЮДЖЕТ ОСИННИКОВСКОГО ГОРОДСКОГО ОКРУГА НА 2016 ГОД</a:t>
            </a:r>
            <a:endParaRPr b="0" lang="en-US" sz="3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4005360"/>
            <a:ext cx="77040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ормативно правовой ак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шение совета народных депутатов Осинниковского городского округа №184-МНА от 11 декабря 2015 года «О бюджете муниципального образования Осинниковский городской округ на 2016 год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6551"/>
                </a:solidFill>
                <a:latin typeface="Arial"/>
              </a:rPr>
              <a:t>Структура расходов бюджета на 2016 год</a:t>
            </a:r>
            <a:br>
              <a:rPr sz="2800"/>
            </a:br>
            <a:r>
              <a:rPr b="0" i="1" lang="ru-RU" sz="2800" spc="-1" strike="noStrike">
                <a:solidFill>
                  <a:srgbClr val="4a6551"/>
                </a:solidFill>
                <a:latin typeface="Arial"/>
              </a:rPr>
              <a:t>1 405 177,5 тыс.руб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32" name="Диаграмма 7" descr=""/>
          <p:cNvPicPr/>
          <p:nvPr/>
        </p:nvPicPr>
        <p:blipFill>
          <a:blip r:embed="rId1"/>
          <a:stretch/>
        </p:blipFill>
        <p:spPr>
          <a:xfrm>
            <a:off x="212760" y="1359000"/>
            <a:ext cx="87184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Структура расходов бюджета на 2016 год в рамках муниципальных программ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34" name="Диаграмма 7" descr=""/>
          <p:cNvPicPr/>
          <p:nvPr/>
        </p:nvPicPr>
        <p:blipFill>
          <a:blip r:embed="rId1"/>
          <a:stretch/>
        </p:blipFill>
        <p:spPr>
          <a:xfrm>
            <a:off x="0" y="785880"/>
            <a:ext cx="90043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Диаграмма 4" descr=""/>
          <p:cNvPicPr/>
          <p:nvPr/>
        </p:nvPicPr>
        <p:blipFill>
          <a:blip r:embed="rId1"/>
          <a:stretch/>
        </p:blipFill>
        <p:spPr>
          <a:xfrm>
            <a:off x="285840" y="1212840"/>
            <a:ext cx="8572320" cy="55227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285840" y="142920"/>
            <a:ext cx="8643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a6551"/>
                </a:solidFill>
                <a:latin typeface="Arial"/>
              </a:rPr>
              <a:t>Источники внутреннего финансирования дефицита бюдже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6551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7d80"/>
                </a:solidFill>
                <a:latin typeface="Arial"/>
              </a:rPr>
              <a:t>Основные характеристики бюджета муниципального образования – Осинниковский городской округ</a:t>
            </a:r>
            <a:endParaRPr b="0" lang="en-US" sz="2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ий объем доходов бюджета городского округа в сумме    1 262 588,3 тыс. руб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ий объем расходов бюджета городского округа в сумме  1 405 177,5 тыс. руб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фицит бюджета городского округа в сумме  142 589,2 тыс. руб., с учетом разницы между полученным и погашенным бюджетным кредитом, предоставленным местному бюджету из субъекта Российской Федер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50004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a6551"/>
                </a:solidFill>
                <a:uFillTx/>
                <a:latin typeface="Arial"/>
              </a:rPr>
              <a:t>Основные</a:t>
            </a:r>
            <a:r>
              <a:rPr b="1" lang="en-US" sz="4400" spc="-1" strike="noStrike" u="sng">
                <a:solidFill>
                  <a:srgbClr val="4a6551"/>
                </a:solidFill>
                <a:uFillTx/>
                <a:latin typeface="Arial"/>
              </a:rPr>
              <a:t> понятия бюдже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БЮДЖЕТ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ДОХОДЫ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РАСХОДЫ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ДЕФИЦИТ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ПРОФИЦИТ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4a6551"/>
                </a:solidFill>
                <a:latin typeface="Arial"/>
              </a:rPr>
              <a:t>ДОХОДЫ</a:t>
            </a:r>
            <a:r>
              <a:rPr b="1" i="1" lang="en-US" sz="3400" spc="-1" strike="noStrike">
                <a:solidFill>
                  <a:srgbClr val="4a6551"/>
                </a:solidFill>
                <a:latin typeface="Arial"/>
              </a:rPr>
              <a:t> БЮДЖЕТА </a:t>
            </a:r>
            <a:endParaRPr b="0" lang="en-US" sz="34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18" name="Диаграмма 9" descr=""/>
          <p:cNvPicPr/>
          <p:nvPr/>
        </p:nvPicPr>
        <p:blipFill>
          <a:blip r:embed="rId1"/>
          <a:stretch/>
        </p:blipFill>
        <p:spPr>
          <a:xfrm>
            <a:off x="139680" y="1139760"/>
            <a:ext cx="87184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Диаграмма 4" descr=""/>
          <p:cNvPicPr/>
          <p:nvPr/>
        </p:nvPicPr>
        <p:blipFill>
          <a:blip r:embed="rId1"/>
          <a:stretch/>
        </p:blipFill>
        <p:spPr>
          <a:xfrm>
            <a:off x="0" y="1212840"/>
            <a:ext cx="8358120" cy="53593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785880" y="35712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Норматив отчислений от нал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на доходы физических ли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Структура доходов на 2016 год</a:t>
            </a:r>
            <a:endParaRPr b="0" lang="en-US" sz="32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22" name="Диаграмма 5" descr=""/>
          <p:cNvPicPr/>
          <p:nvPr/>
        </p:nvPicPr>
        <p:blipFill>
          <a:blip r:embed="rId1"/>
          <a:stretch/>
        </p:blipFill>
        <p:spPr>
          <a:xfrm>
            <a:off x="360360" y="1450800"/>
            <a:ext cx="828360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Структура налоговых и неналоговых доходов</a:t>
            </a:r>
            <a:br>
              <a:rPr sz="2800"/>
            </a:b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на 2016 год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24" name="Диаграмма 7" descr=""/>
          <p:cNvPicPr/>
          <p:nvPr/>
        </p:nvPicPr>
        <p:blipFill>
          <a:blip r:embed="rId1"/>
          <a:stretch/>
        </p:blipFill>
        <p:spPr>
          <a:xfrm>
            <a:off x="0" y="1073160"/>
            <a:ext cx="91440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Диаграмма 11"/>
          <p:cNvGraphicFramePr/>
          <p:nvPr/>
        </p:nvGraphicFramePr>
        <p:xfrm>
          <a:off x="571680" y="928800"/>
          <a:ext cx="792936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Диаграмма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28800"/>
                    <a:ext cx="79293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Прямоугольник 2"/>
          <p:cNvSpPr/>
          <p:nvPr/>
        </p:nvSpPr>
        <p:spPr>
          <a:xfrm>
            <a:off x="428760" y="14292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БЕЗВОЗМЕЗДНЫЕ ПОСТУПЛЕНИЯ ОТ ДРУГ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БЮДЖЕТОВ БЮДЖЕТНОЙ СИСТЕМЫ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РАСХОДЫ БЮДЖЕТА</a:t>
            </a:r>
            <a:br>
              <a:rPr sz="2800"/>
            </a:br>
            <a:r>
              <a:rPr b="0" i="1" lang="en-US" sz="2400" spc="-1" strike="noStrike">
                <a:solidFill>
                  <a:srgbClr val="5b7662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2071800" y="1214280"/>
            <a:ext cx="4924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Диаграмма 10" descr=""/>
          <p:cNvPicPr/>
          <p:nvPr/>
        </p:nvPicPr>
        <p:blipFill>
          <a:blip r:embed="rId1"/>
          <a:stretch/>
        </p:blipFill>
        <p:spPr>
          <a:xfrm>
            <a:off x="426960" y="1712880"/>
            <a:ext cx="81676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ревизор</cp:lastModifiedBy>
  <dcterms:modified xsi:type="dcterms:W3CDTF">2017-04-04T04:06:48Z</dcterms:modified>
  <cp:revision>116</cp:revision>
  <dc:subject/>
  <dc:title>Слайд 1</dc:title>
</cp:coreProperties>
</file>